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072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6807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dt" idx="13"/>
          </p:nvPr>
        </p:nvSpPr>
        <p:spPr>
          <a:xfrm>
            <a:off x="3854160" y="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Img"/>
          </p:nvPr>
        </p:nvSpPr>
        <p:spPr>
          <a:xfrm>
            <a:off x="1174320" y="1238400"/>
            <a:ext cx="4457880" cy="3342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ftr" idx="14"/>
          </p:nvPr>
        </p:nvSpPr>
        <p:spPr>
          <a:xfrm>
            <a:off x="0" y="941076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 type="sldNum" idx="15"/>
          </p:nvPr>
        </p:nvSpPr>
        <p:spPr>
          <a:xfrm>
            <a:off x="385416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93F7-335A-4ED5-8484-DCCF01EDC6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0B2E-8D9F-40D1-A653-5ECEAD5D5E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74680" y="1238400"/>
            <a:ext cx="4457880" cy="33429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0760" y="4766760"/>
            <a:ext cx="5445000" cy="39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ymbol zastępczy numeru slajdu 3"/>
          <p:cNvSpPr/>
          <p:nvPr/>
        </p:nvSpPr>
        <p:spPr>
          <a:xfrm>
            <a:off x="3854520" y="9410760"/>
            <a:ext cx="2950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8D5A-58AC-41F2-A7E8-033563403E4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D7FE-7041-4995-BABD-5EA0CCCC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FB8F-B10B-4C97-8306-BF6F125F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FD53-9C63-4107-B221-2742D5BB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816F-5503-405D-9D1D-0B099138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1755-757C-4E59-8D0D-618B4CB7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8BDB-BE42-4159-8B54-D7C8BF7D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957D-BD6B-467B-93A6-A967E544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AAFF-82EE-4655-A574-6988EED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757F-0A1F-47E4-9DCD-0051058B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6ED1-C442-4243-B506-34C4662B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758C-EE35-47A3-8706-AEA2AA61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1A0C-576C-4F37-9C43-6754C6F9D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2052-532A-4494-BD2D-DEE3BC61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EA1CB-D2C1-4239-9A6E-928B0B02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6D297-34B3-4B18-AECB-11F13670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B37A7-E0B3-45F5-AB8D-4F72E615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3800-C7CD-4944-894B-D49AAEF4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F507F-E9E8-4C20-A671-6FF27E39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EC1B-0A80-4652-B27D-B3D1A5C3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C293-4F39-4DEC-B274-774AF755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7CC4E-401D-4362-A51A-4F5C59E6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7DD74-482F-4E97-B40F-E585A3D6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2A41-E7DC-489D-959C-EB2687D1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53DB7-4F0D-4950-99B7-388C82780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49789-C7DE-45C9-AC1B-184A6EB2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5AE69-FBCA-4424-9CFF-071DE1C8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E682A-55EF-4430-9FC5-EE3514B3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CEC5E-8830-4E3E-AF7C-FA220E62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B9E0E-9664-4BD9-BE15-2F37E2E8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23720" y="826920"/>
            <a:ext cx="822960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67A55-4397-4F3E-A6A6-8551F9B2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99BCD-71D1-4A38-9E65-AE642A6A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4997-996C-4D89-AAEA-7EFB04B6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4A7A9-750E-4639-BCBD-63F7C43A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A5F02-3761-424B-933F-EDBA5EBF6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F3328-DB24-4264-9BCD-503439D8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257148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428000"/>
            <a:ext cx="264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4F190-C874-428A-B5A8-93256466A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42800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571480"/>
            <a:ext cx="40158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428000"/>
            <a:ext cx="822960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3"/>
          <p:cNvSpPr/>
          <p:nvPr/>
        </p:nvSpPr>
        <p:spPr>
          <a:xfrm>
            <a:off x="0" y="6504120"/>
            <a:ext cx="6157800" cy="361800"/>
          </a:xfrm>
          <a:prstGeom prst="rect">
            <a:avLst/>
          </a:prstGeom>
          <a:solidFill>
            <a:srgbClr val="84c2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4"/>
          <p:cNvSpPr/>
          <p:nvPr/>
        </p:nvSpPr>
        <p:spPr>
          <a:xfrm>
            <a:off x="457200" y="6504120"/>
            <a:ext cx="8686800" cy="361800"/>
          </a:xfrm>
          <a:prstGeom prst="rect">
            <a:avLst/>
          </a:prstGeom>
          <a:solidFill>
            <a:srgbClr val="c7e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3720" y="826920"/>
            <a:ext cx="8229600" cy="657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Obraz 3" descr=""/>
          <p:cNvPicPr/>
          <p:nvPr/>
        </p:nvPicPr>
        <p:blipFill>
          <a:blip r:embed="rId2"/>
          <a:stretch/>
        </p:blipFill>
        <p:spPr>
          <a:xfrm>
            <a:off x="6033960" y="6103800"/>
            <a:ext cx="2820960" cy="925560"/>
          </a:xfrm>
          <a:prstGeom prst="rect">
            <a:avLst/>
          </a:prstGeom>
          <a:ln w="0">
            <a:noFill/>
          </a:ln>
        </p:spPr>
      </p:pic>
      <p:pic>
        <p:nvPicPr>
          <p:cNvPr id="5" name="Obraz 9" descr=""/>
          <p:cNvPicPr/>
          <p:nvPr/>
        </p:nvPicPr>
        <p:blipFill>
          <a:blip r:embed="rId3"/>
          <a:stretch/>
        </p:blipFill>
        <p:spPr>
          <a:xfrm>
            <a:off x="324000" y="33480"/>
            <a:ext cx="1800000" cy="793440"/>
          </a:xfrm>
          <a:prstGeom prst="rect">
            <a:avLst/>
          </a:prstGeom>
          <a:ln w="0">
            <a:noFill/>
          </a:ln>
        </p:spPr>
      </p:pic>
      <p:pic>
        <p:nvPicPr>
          <p:cNvPr id="6" name="Obraz 10" descr=""/>
          <p:cNvPicPr/>
          <p:nvPr/>
        </p:nvPicPr>
        <p:blipFill>
          <a:blip r:embed="rId4"/>
          <a:stretch/>
        </p:blipFill>
        <p:spPr>
          <a:xfrm>
            <a:off x="6910560" y="189000"/>
            <a:ext cx="1944360" cy="57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4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8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33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34" name="Prostokąt 8"/>
          <p:cNvSpPr/>
          <p:nvPr/>
        </p:nvSpPr>
        <p:spPr>
          <a:xfrm>
            <a:off x="0" y="500040"/>
            <a:ext cx="928800" cy="10717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ED8D-A6E1-4C3D-9DFC-101E496B6CC3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179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F04D-DF50-4C68-9D0B-CAF478A9C9E5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Obraz 26" descr="Obraz1.jpg"/>
          <p:cNvPicPr/>
          <p:nvPr/>
        </p:nvPicPr>
        <p:blipFill>
          <a:blip r:embed="rId2"/>
          <a:srcRect l="0" t="123" r="7247" b="3027"/>
          <a:stretch/>
        </p:blipFill>
        <p:spPr>
          <a:xfrm>
            <a:off x="0" y="0"/>
            <a:ext cx="91360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ole tekstowe 22"/>
          <p:cNvSpPr/>
          <p:nvPr/>
        </p:nvSpPr>
        <p:spPr>
          <a:xfrm>
            <a:off x="214200" y="647388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26937"/>
                </a:solidFill>
                <a:latin typeface="Calibri"/>
              </a:rPr>
              <a:t>Zainwestujmy razem w środowi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az 8" descr="dekor2.png"/>
          <p:cNvPicPr/>
          <p:nvPr/>
        </p:nvPicPr>
        <p:blipFill>
          <a:blip r:embed="rId3"/>
          <a:srcRect l="476" t="31485" r="0" b="38889"/>
          <a:stretch/>
        </p:blipFill>
        <p:spPr>
          <a:xfrm>
            <a:off x="0" y="554040"/>
            <a:ext cx="938160" cy="946080"/>
          </a:xfrm>
          <a:prstGeom prst="rect">
            <a:avLst/>
          </a:prstGeom>
          <a:ln w="0">
            <a:noFill/>
          </a:ln>
        </p:spPr>
      </p:pic>
      <p:pic>
        <p:nvPicPr>
          <p:cNvPr id="224" name="Obraz 9" descr=""/>
          <p:cNvPicPr/>
          <p:nvPr/>
        </p:nvPicPr>
        <p:blipFill>
          <a:blip r:embed="rId4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0080" y="3567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00008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 algn="just">
              <a:spcBef>
                <a:spcPts val="499"/>
              </a:spcBef>
              <a:buClr>
                <a:srgbClr val="000000"/>
              </a:buClr>
              <a:buSzPct val="70000"/>
              <a:buFont typeface="Courier New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8219-F128-4B58-A231-E8E5E855357F}" type="slidenum">
              <a:rPr b="0" lang="pl-PL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rostokąt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H:\Grupy\DL\FOTOLIA\Fotolia_65208503_M.jpg"/>
          <p:cNvPicPr/>
          <p:nvPr/>
        </p:nvPicPr>
        <p:blipFill>
          <a:blip r:embed="rId1"/>
          <a:srcRect l="0" t="0" r="3757" b="0"/>
          <a:stretch/>
        </p:blipFill>
        <p:spPr>
          <a:xfrm>
            <a:off x="0" y="-27000"/>
            <a:ext cx="9144000" cy="6357960"/>
          </a:xfrm>
          <a:prstGeom prst="rect">
            <a:avLst/>
          </a:prstGeom>
          <a:ln w="0">
            <a:noFill/>
          </a:ln>
        </p:spPr>
      </p:pic>
      <p:sp>
        <p:nvSpPr>
          <p:cNvPr id="275" name="Prostokąt 30"/>
          <p:cNvSpPr/>
          <p:nvPr/>
        </p:nvSpPr>
        <p:spPr>
          <a:xfrm>
            <a:off x="0" y="239544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ole tekstowe 31"/>
          <p:cNvSpPr/>
          <p:nvPr/>
        </p:nvSpPr>
        <p:spPr>
          <a:xfrm>
            <a:off x="704880" y="2554200"/>
            <a:ext cx="83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y Fundusz Ochrony Środowiska i Gospodarki Wod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ole tekstowe 32"/>
          <p:cNvSpPr/>
          <p:nvPr/>
        </p:nvSpPr>
        <p:spPr>
          <a:xfrm>
            <a:off x="704880" y="28814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zęść 1) Sokół – wdrożenie innowacyjnych technologii środowisk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raz 11" descr=""/>
          <p:cNvPicPr/>
          <p:nvPr/>
        </p:nvPicPr>
        <p:blipFill>
          <a:blip r:embed="rId2"/>
          <a:srcRect l="0" t="10363" r="0" b="19217"/>
          <a:stretch/>
        </p:blipFill>
        <p:spPr>
          <a:xfrm>
            <a:off x="5508720" y="6021360"/>
            <a:ext cx="3425760" cy="792360"/>
          </a:xfrm>
          <a:prstGeom prst="rect">
            <a:avLst/>
          </a:prstGeom>
          <a:ln w="0">
            <a:noFill/>
          </a:ln>
        </p:spPr>
      </p:pic>
      <p:sp>
        <p:nvSpPr>
          <p:cNvPr id="279" name="pole tekstowe 9"/>
          <p:cNvSpPr/>
          <p:nvPr/>
        </p:nvSpPr>
        <p:spPr>
          <a:xfrm>
            <a:off x="870120" y="52912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Michał Szczepa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partament Innowacji i Ekspert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rostokąt 13"/>
          <p:cNvSpPr/>
          <p:nvPr/>
        </p:nvSpPr>
        <p:spPr>
          <a:xfrm>
            <a:off x="-9360" y="3836880"/>
            <a:ext cx="9144000" cy="1285920"/>
          </a:xfrm>
          <a:prstGeom prst="rect">
            <a:avLst/>
          </a:prstGeom>
          <a:solidFill>
            <a:srgbClr val="bfbfb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ole tekstowe 3"/>
          <p:cNvSpPr/>
          <p:nvPr/>
        </p:nvSpPr>
        <p:spPr>
          <a:xfrm>
            <a:off x="3013200" y="4079880"/>
            <a:ext cx="6121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ryteria oceny projektów dla fazy B+R i fazy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ca01a"/>
              </a:buClr>
              <a:buSzPct val="13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strukcja wypełniania w GWoD dla fazy B+R i fazy 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B+R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B+R posiada tylko kryteria jakościowe dopuszczają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a pozycja jest oceniana na zasadzie spełnia – nie spełnia. Nie ma punktacj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Negatywna ocena któregokolwiek kryterium powoduje odrzucenie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http://nfosigw.gov.pl/gfx/nfosigw/userfiles/files/srodki_krajowe/programy_2018/sokol/pp_wsaprcie_dla_innowacji_-zmiana_06.11.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Faza W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9280" y="170028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Faza W posiada tylko kryteria jakościowe punktowe w zakresie oceny </a:t>
            </a:r>
            <a:br>
              <a:rPr sz="1800"/>
            </a:b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ekologiczno - techniczne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niosek musi otrzymać całościowo oraz w grupach (I, II, III) co najmniej 60% możliwych do zdobycia punktó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ażde kryterium posiada minimum punktowe oprócz II.1 oraz II.3, dla których negatywna ocena nie powoduje odrzucenia wnios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24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Wzór karty oceny znajduje się na końcu dokumentu „Program Priorytetowy” odpowiedniego dla danego nabo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Dokument można znaleźć pod poniższym linkie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http://nfosigw.gov.pl/gfx/nfosigw/userfiles/files/srodki_krajowe/programy_2018/sokol/pp_wsaprcie_dla_innowacji_-zmiana_06.11.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yteria oceny – Krajowe Inteligente Specjalizacje (KIS)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79280" y="213372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 algn="just">
              <a:spcBef>
                <a:spcPts val="29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rajowe Inteligentne Specjalizacje – szczegółowy opis wszystkich KIS znajduje się pod poniższym linki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http://nfosigw.gov.pl/gfx/nfosigw/userfiles/files/srodki_krajowe/programy2015-2020/sokol/2018_iii_nabor/opis_krajowe_inteligentne_specjalizacje__2018.pd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f497d"/>
                </a:solidFill>
                <a:latin typeface="Calibri"/>
              </a:rPr>
              <a:t>KIS, które obowiązują w danym naborze, są wskazane w Programie Priorytetowy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1360" y="356760"/>
            <a:ext cx="76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strukcja wypełniania GWD.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4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Generator wniosków o dofinansowanie jest narzędziem umożliwiającym przygotowanie i przekazanie do Narodowego Funduszu Ochrony Środowiska i Gospodarki Wodnej wniosków o dofinansowanie projektów ze środków krajowych oraz realizowanych w ramach POIiŚ 2014-20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rzystanie z Generatora polega na rejestrowaniu danych poprzez sieć Internet w bazie NFOŚiG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celu zautomatyzowania pracy – system posiada formularze wniosków gotowe do wypełnieni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4000"/>
              </a:lnSpc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ttp://gwd.nfosigw.gov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4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aza B+R – 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ole tekstowe 1"/>
          <p:cNvSpPr/>
          <p:nvPr/>
        </p:nvSpPr>
        <p:spPr>
          <a:xfrm>
            <a:off x="250920" y="17654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lan prac badawczo-rozwojow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technologiczny innowacyjnej technologii będącej przedmiotem prac badawczo rozwojow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ublikacje naukow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pinie jednostek naukowo badawczy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ykaz niezbędnego sprzętu wraz z wycen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organizacyjny jednostki badawczo rozwojow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Inne dokumenty: zgłoszenie patentowe, licencje, umowy z jednostkami badawczymi, listy intencyjne potwierdzające zapotrzebowanie na wyniki prac badawczo rozwojowych i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ole tekstowe 1"/>
          <p:cNvSpPr/>
          <p:nvPr/>
        </p:nvSpPr>
        <p:spPr>
          <a:xfrm>
            <a:off x="250920" y="176544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bowiązkow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Mapa lokalizacyjna inwestyc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chemat technologiczny innowacyjnej technologii będącej przedmiotem wdrażan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tudium wykonalności (opracowane wg wymagań zawartych w Instrukcji sporządzania Studium Wykonalności dla przedsięwzięcia ubiegającego się o dofinansowanie ze środków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FOŚiGW dostępnej w generatorze wnioskó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ieobowiązkowe - uzupełniają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Uzyskane główne dokumenty administracyjne przedstawiające proces uzgodnieniowy przeprowadzenia inwestycji: np. decyzje środowiskowe, pozwolenie na budow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armonogram realizacji prac budowlanych (jeśli dotycz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Harmonogram uzyskiwania zgód administracyjnych (jeśli dotycz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Udokumentowanie prawa do dysponowania nieruchomości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yceny, otrzymane oferty, kosztorys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datkowe dokumenty: zgłoszenia patentowe, licencje, umowy z dostawcami, listy intencyjne potwierdzające zapotrzebowanie na produkt itp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aza W – Załączniki </a:t>
            </a:r>
            <a:br>
              <a:rPr sz="4200"/>
            </a:br>
            <a:r>
              <a:rPr b="1" lang="pl-PL" sz="12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                                                                             </a:t>
            </a:r>
            <a:r>
              <a:rPr b="1" lang="pl-PL" sz="1400" spc="-1" strike="noStrike">
                <a:solidFill>
                  <a:srgbClr val="000000"/>
                </a:solidFill>
                <a:latin typeface="Calibri"/>
              </a:rPr>
              <a:t>(dot. oceny ekologiczno-technicznej)</a:t>
            </a:r>
            <a:endParaRPr b="1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ymbol zastępczy zawartości 2"/>
          <p:cNvSpPr/>
          <p:nvPr/>
        </p:nvSpPr>
        <p:spPr>
          <a:xfrm>
            <a:off x="415800" y="34275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ziękuję za uwagę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ymbol zastępczy zawartości 2"/>
          <p:cNvSpPr/>
          <p:nvPr/>
        </p:nvSpPr>
        <p:spPr>
          <a:xfrm>
            <a:off x="0" y="5516640"/>
            <a:ext cx="9144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ichał Szczepa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chal.szczepaniak@nfosigw.gov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1:17:11Z</dcterms:created>
  <dc:creator>MPietras</dc:creator>
  <dc:description/>
  <dc:language>en-US</dc:language>
  <cp:lastModifiedBy>Szczepaniak Michał</cp:lastModifiedBy>
  <cp:lastPrinted>2016-08-08T05:02:58Z</cp:lastPrinted>
  <dcterms:modified xsi:type="dcterms:W3CDTF">2018-12-15T08:56:29Z</dcterms:modified>
  <cp:revision>409</cp:revision>
  <dc:subject/>
  <dc:title>Slajd 1</dc:title>
</cp:coreProperties>
</file>